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Market Segmentation, Targeting and Positio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hapter 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MR110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teps in Segmenting and targeting markets (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17524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ceptual maps give a 2 dimensional view of 2 product attributes relative to other competitive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4419720" y="3200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"/>
          <p:cNvSpPr/>
          <p:nvPr/>
        </p:nvSpPr>
        <p:spPr>
          <a:xfrm>
            <a:off x="2514600" y="45720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554720" y="29368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 flipV="1">
            <a:off x="3429000" y="5867280"/>
            <a:ext cx="14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632480" y="583236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vy 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117520" y="39276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004440" y="40035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086600" y="243828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M Allows Marketers to define the Compet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alyzing the Marke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Survey questions to reveal more than the obvio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oss-Tabulation:  Comparing the answer on one survey question to anoth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g: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Q1) How old are you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0-40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41-8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Q2) Where do you live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ity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unt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ok at the answers to each question and ask do younger people have a propensity to live in the city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egmentation I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Placing prospective buyers into groups (segments)  tha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1) Have common needs &amp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2) will respond similarly to a given set of marketing actio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y Segment a Marke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rganizations have limited budgets.  Because of this coupled with the need  to maximize profits or maximize shareholder value, most organizations have to make choi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Picking one or a few key segments to target sales allows organizations to channel their scarce resources most effectivel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en to Segment a Marke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You should segment your market only if in doing it you can either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 sa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 profit 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 Return on Investment (ROI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Organizations often achieve this by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ling a single product to several markets – Selling baking soda to bakers and baking soda to athletes as deodorize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ling several products to several markets – usually the domain of larger firms – car companies make different models for different types of markets/consumer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ss-customization – this is a new trend that harnesses the power of logistics management and information management systems in such a way that companies can build a product to meet an individual’s taste while at the same time carefully control the costs of doing thi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teps in Segmenting and targeting markets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Form Prospective buyers into Segment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Do so only if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46240">
              <a:spcBef>
                <a:spcPts val="37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you can increase profit/ROI by doing it;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46240">
              <a:spcBef>
                <a:spcPts val="37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only if you can clearly form segments that contain people with similar needs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46240">
              <a:spcBef>
                <a:spcPts val="37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The difference between the segments are substantial enough to warrant the segment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46240">
              <a:spcBef>
                <a:spcPts val="37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It is feasible – the cost of reaching the segment is less than the potential revenue received from that segment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alibri"/>
              </a:rPr>
              <a:t>Ways to segment a consumer market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46240">
              <a:spcBef>
                <a:spcPts val="37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Region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46240">
              <a:spcBef>
                <a:spcPts val="37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Family Siz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46240">
              <a:spcBef>
                <a:spcPts val="37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Lifesty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46240">
              <a:spcBef>
                <a:spcPts val="37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Potential Benefits Offered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46240">
              <a:spcBef>
                <a:spcPts val="374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Usage Rat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teps in Segmenting and targeting markets (1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Ways to segment an organizational market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Lo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IC co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Number of employe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teps in Segmenting and targeting markets (2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Form Products to be sold into group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reak products into categories that match buyers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Eg: Skidoo offer 7 lines of snowmobile models to meet every tast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teps in Segmenting and targeting markets (3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Develop a Market Product grid and estimate the size, growth, competitive position, cost of reaching each market, as well as assessing the organizations object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hoose a segment or segments that best suit the organizations need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teps in Segmenting and targeting markets (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Take Marketing Actions to reach the target marke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re are two basic stratagies to sell products in a competitive environme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Head to Head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- Direct competition, comparing your product with the competitors on similar attributes.  Duracell-Energis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Differentiation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- Emphasising differences among your products and others.  Stress unique aspects of the product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7T17:14:48Z</dcterms:created>
  <dc:creator>Debbie Vincent</dc:creator>
  <dc:description/>
  <dc:language>en-US</dc:language>
  <cp:lastModifiedBy>Tilley, Paul (C'ville)</cp:lastModifiedBy>
  <dcterms:modified xsi:type="dcterms:W3CDTF">2011-11-21T18:00:45Z</dcterms:modified>
  <cp:revision>8</cp:revision>
  <dc:subject/>
  <dc:title>Market Segmentation, Targeting and Positio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